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F77-459C-4357-913A-B0FB0548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F72-248F-45E6-8893-5B540E02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479D0-A2F7-4E8E-A4D7-0E4BBEA0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D836D-3948-4427-A5CB-7275C9E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E8744-97DC-4670-9D84-A1C642B1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D35F8-D96D-4489-B021-D8C506E4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84575-AD46-46E5-AF29-9D325DFC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C3E9B-5893-42A1-BC6C-547BFA38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1B21A-D563-4A78-84F4-3DFA7BEA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75154-2278-4023-B83F-5DB1DA56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ADFF3-226D-45CD-AFFA-DB993E22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3B212-81E0-475C-B006-7326CCBB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4F7-2849-4333-8D87-2D0A7FE7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93247-ADBF-4C33-B07A-EF47BCD0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12F94-A467-4AD8-B710-C85DBDEB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A7E16-489E-4ABA-B9A2-FC3F9359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00BDF-13F4-4A8D-B0E2-5F573288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D254E-81AC-410C-89D3-FD264DCD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39EDC-1C1A-422F-9D0D-1949415E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32D69-F1D9-4B7C-8C3B-812031A9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44C9A-D966-4D19-B6A6-2BEE5202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CFD49-C5EF-445E-BB27-3B4EAC7F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B8063-A5F7-45CB-BF5C-E42008AA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735-A626-45B2-8920-EF0B178C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C0EE6-7925-42DA-BE18-46D5E7AA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4FE58-6E14-4276-AAB2-D009F48E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EDC62-7EF1-4223-80EC-A5FAA551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15C30-A550-49E1-BC72-E2003903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16F4D-68A3-43C9-93B0-BDC3FC8F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647B8-2E50-43CC-A6C2-F424276C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51956-8A4A-4557-B89D-03F65892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908B9-870E-4347-9AF8-CD1AEC05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840B7-6B94-4A34-9698-818121E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03376-EC90-438C-AC4B-310AF970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549D-A659-4DF2-95EF-FEE26177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BEAB2-3F05-4414-A4CE-D5D7F903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0B665-C61E-4C95-8DEF-AA407E9C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7D3B5-073C-4E16-8405-17601716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5C188-EA37-4E8C-A7F6-826D58F1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E5784-3B26-46BB-9A31-5D3B1858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6B419-30E6-465A-9356-F7AFF9E2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ABE4E-9E5F-4D3B-9B5D-AE5FE14D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21C32-4607-44D1-8B94-FEB5C3A2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80522-F77C-458F-8A7E-0A2745FC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CB53B-FAAB-4967-BB42-9D823A77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49A-4198-40DF-9E16-0E763710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56AC3-A374-48B1-B8AE-35CCEA8F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E94DD-A322-49AC-A6D8-CE5AA807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CBF98-BB8A-4CB2-AB86-2BC296E9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4FD84-8309-4AF4-8E83-D2F79F43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DE86D-B8A7-4685-B845-95F9E7AC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58772-3F90-4A75-B7F0-FADD01AD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1669B-B485-480B-A727-7A88AFEB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31AD5-DB23-4873-920F-AD2DC2DC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134A2-0F24-4B44-8ECA-7C1C2036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1483C-A5D8-448D-BD7A-D3481B6D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7236-DAFE-4842-BBB9-65311DBE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6CFE4-3AAF-460F-8D26-E23EF6AC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31E85-7ED0-4B2B-8E59-7F73FE59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DAC49-A66F-4205-873E-9D2BDDA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18143-E1AA-4895-961D-365C82E7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67671-3619-4BF9-BEB7-84E4582B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A92A9-795D-4D23-82C8-7FE8F15C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FB77E-34AF-404B-A70A-F6ED3CCC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54521-8425-4A74-AFB8-F76A1E1A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07ADD-5D1E-459A-A5DC-D4B6E4F9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56356-4F6D-4377-8308-3623B4E6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0464-EB35-4923-95E0-100D88CC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AAF75-3B75-4271-983E-0849AE60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7C184-B321-4F6E-9D84-27A22328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36E56-6374-48BC-9CC1-E06F1598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5338D-67B7-4FB1-BB3D-D36C02A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790C7-6BDA-4945-94E7-C32416FD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BDD627-4A31-43ED-8AA6-3EEEB888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C133D-22C3-4FE7-9F57-591053D8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A0D27-7230-49B6-ACC0-ECF3A9F4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1A202-72A2-4C14-B355-1ABBB74D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FC5B2-D27D-47FA-9F66-2DAE23F3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C24D-F453-4E08-9E01-1ACEAB74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31583-6056-40F3-A467-21890CCF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84A28-6E66-47A4-A417-7CFFBD29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6A6167-3ABE-4071-8323-22E0629F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1D1BA-1944-4DCE-B31C-2A82BB42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8D5AC-2F68-4BD4-A222-0DC53DC3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061C0-B7C3-4F5F-B05C-AB898E5C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BF9C5-78A1-41F3-971D-4987F33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C000A-43E7-4DD7-A175-B6F46CC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9183B-3AA5-4CAD-A24B-F2313E0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EFE11-FA8A-4355-874F-A6916AFC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501D-3FCD-4093-9078-9C414A37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F2495-555B-4BCE-9F7C-ED6F1109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77EFBE-076D-4512-A089-A5FBF098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1B8D4-4F26-45D8-9E0C-953278B7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7D58D-3305-4F34-8638-929E0877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524C2-CCC7-4F25-8E62-61C8D6CA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C9035-970A-4216-BF4D-2ADF9907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ABFFB-B60C-4678-B9A5-29FB0C4D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89BC0-A5B3-47F1-A880-703C6B65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0BAD96-1D10-4401-AE75-04FDA967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0EA9DF-C934-4968-B881-FABAA3E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B7A8-C8F1-49F0-BBAF-8A318EE9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9F5EA-87A8-4DD7-8D0A-1D54AFF8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543DC-4578-48A8-84C5-F04EE5BB6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1BCFC0-B906-4DF8-BF86-534C56DA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4F2B9-FA18-4843-9A90-FCDA7727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1146A-B5FE-4100-870A-4BD91A60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D07F2-0CCD-4B29-BCFA-A3EF9A74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39044-C682-4BF3-BAE7-DCBBAC02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043435-2F36-435E-A1D7-18501667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99157-0CD5-44DE-BDBF-8ED23B2D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C9699-EEFD-41C6-BE8A-40D2D233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A9C-7942-4130-88D4-771828BA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7CA2-6780-48E4-973A-062326A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E8E13-B682-4061-BB54-A5015A46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EB5D0-3F3E-4768-82F3-7727C476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EE6C3-7921-4D59-BFBB-80E90EA3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DFA9F1-C675-497A-B3FD-6F69182D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DE914-6EBD-4245-A004-57DF3BB4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BCE51-A43E-4A21-B7B9-DFD74ACE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50E53-BFAC-49DC-8086-A6761E3B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99BFE-1DAA-4D65-8D48-A3165E2A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78BFB-BCD3-40BA-9855-65A3D9FA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0562E7-5E04-491F-B2F5-D6645256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4ED8-11ED-46C4-A82B-3663E97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CA05D7-2D10-4EA8-A2AB-5BEFCA7E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72B93-A2B8-4281-9E9F-0CB5E4CB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F53CEF-B6FE-45D6-BC20-0F367338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2A837A-11D7-4811-8CDB-BA8D589C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C2691-1419-4969-8BF9-32CA8F94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9B6B0-9DA8-4539-894A-90727E4D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51DCFB-1CFD-436F-A269-B2F879C0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C222C-C93E-4228-A02D-014C9A73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0D4D91-7E80-4A6B-B0AC-F5B2A876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D0CDCA-D704-431B-AE60-6161B681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9300-97B5-4BCD-86C6-66CD9F0B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68C2B-F662-4E96-B278-83EF5FFE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ADD5E5-717D-402F-A14F-BA0118E2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F65C97-16A4-42BC-BF51-6490250A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A6152A-D13E-4D97-8CB7-38FCA0D6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45997-C6FF-4A67-9004-EDA7DB42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F1D75-1E42-4E32-8B1B-93B14D8F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D72049-30FB-431F-AA79-71C358FF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A450AA-EA40-4121-A120-3ED6B17C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0CB94D-EBD5-47FF-B300-88F1B99A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8A817-86F5-484A-A0DA-4D83FAA3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CAE2-E6D0-433D-AB0A-C840FBC4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5253A1-344D-4F8C-83A0-66167835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4DA0CA-F946-414D-B421-5062F3F8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2A105-739C-4B19-9483-6F10BC41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307E2-93A0-42BC-8515-DB362F5E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E29D50-25E8-487E-8513-7A66AF39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D2E5D-2072-4599-A644-95D557D7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5FCF37-6FE2-431F-8A5E-F42745F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97E60-6A1B-40CE-A1B4-B8A80FE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2982F6-94CE-4182-8AFD-28D3434A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092BF-632F-4EFF-830A-D835E0F7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8E92-C889-456D-B7F5-5627F398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BB2AAA-CF16-4501-8D72-88320B93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13D637-810D-4E47-A152-96EEB1BC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870CE-E4EF-458A-82DF-8C02657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1144D5-D85C-4CD2-9BFC-E8E44914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4BBED8-91F5-440A-B16B-EB88DFA2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40604-71E4-44A0-B3AF-19526FF0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754ED-9E7A-483B-918A-C5254C54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55C6E1-20D6-4884-9AEC-3CDA4B69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05D084-6985-40E1-AE0E-23192E4A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095E28-D3CD-46E9-B1D7-64B1B407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ECA49-651C-4459-BA26-D3EF73D7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54C24C-9E59-40F9-A47C-A0625B5E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DF038A-AE8B-4807-A1C5-ED27D26F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B6C688-3A94-44F3-A978-328926FB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8DC4D-CBF6-4654-80F2-A8464BCC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97B8-C36A-4E9F-98B2-3E15C706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A418-7CB3-4DF8-9013-29E2385B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6A1A-1836-4994-A293-BF45A285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9B3-1997-4CB3-B66D-DCFC81A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E501-BB4D-4FA0-BEC0-B722104F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3426-373E-4545-BF07-E7A9FCC5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11FC-4A21-421A-B5B2-7B7B4486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FAF4-EB80-497E-A4C8-CFC0BB9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B034-8D8A-4618-BED0-819FA796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E7C3-063D-405D-B08A-0AAF1BE3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719B-D520-4446-BD74-3C9BCDB1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2465-60AC-4DA9-B704-890CB5A8D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4D27-D7F7-4D6A-8A8D-7F63A0C9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72FB4-4E46-47CB-9A3A-B97A7EE8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FD2-27F0-4230-A0A5-D431362F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3856D-A304-4F32-BCD3-1165DC39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F86F-7E4A-41DC-A858-437F8F2D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F88D-5A52-4A85-84DB-F6008A0C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CDF08-E1AF-4EBF-92DF-1A92F5D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87F6-2B03-4B9C-92C9-88BC85F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56E6-59BF-454A-AA59-E52A13E8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83D28-AC9A-4D49-8069-58DF945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ACE84-B7F4-47DF-95F1-17DFAD00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E15A3-BD65-40C5-9CC9-8EF15A4F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59A20-0A15-4B1C-93AA-43A5C6AD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FB6-0E9B-49F9-90B6-D617EA2E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BB288-42B6-4211-8A0E-BDB34A19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1CA67-8BE9-4B40-B6AF-1ECDE299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04A16-620D-43D9-B19D-CF7ED5D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ECF9-E12E-4BCE-B525-E6F98C95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1151-0E93-4D7C-A07C-4D35C808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D709-8355-4F1B-BDBB-C1CF7E8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6000E-2AC4-47DD-B09E-3A8F2E6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8E3C3-6A3F-43D5-BE74-1C67FCD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D436-4D5A-49E5-86C1-996B6E0E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55521-4348-4060-8EE9-16B31C1A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A5E-7318-40DB-A392-8122F94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E22B2-3ED8-4F27-AA8E-AC7151B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C2D27-4E4B-4340-9780-B1EEC7AB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6154A-2C61-41F7-B70D-28303925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6E7F9-6BD7-4CE9-ABD1-D0806EE4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E11D-1881-46F3-AD40-EA485EC2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6073B-97ED-4C64-8AB9-EB8C06F0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E32D3-4F00-4B44-A428-D6AF94A0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4F922-3784-4A60-BC3C-23E5875A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75288-0B50-4F35-B551-B4DBCCF6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DE08A-625B-4B73-B88C-8C2A2AB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37D-D6DF-42EB-8E66-DD8BABE5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1D7C6-F080-4DA4-A827-F7C1190B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2A3E2-D9B5-4262-92F5-5BD33591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8C02D-D9CF-418D-8D69-B4D47B05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EDE9C-ED00-44B2-A492-CCE7D39A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65D62-22A3-4E14-86F0-87C9D09D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5A15D-A7F7-450F-AD7A-9CACD55F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29321-50AA-4EBC-8368-EC668A21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BA550-8221-4B80-B513-26011BA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C929E-D91D-4ED4-8F6B-7B9A852D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F37D-41A4-4CF6-AECE-73840B8C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73D-73CB-4117-9066-6196F49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FB547-D321-42DB-9388-15E353F1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CE15C-68F2-478B-9026-1F5FF86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AC332-281A-434C-8AA7-0D81E7E5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97994-FCB8-4192-AF8F-79C54985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32949-A662-466A-900A-D0777D64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3E26A-E45E-4B95-B2CD-0D140D63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F1689-E725-4F27-AE77-E5143912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4A502-D017-43E4-97E7-FF2BEA32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81691-0B4D-4655-B708-75DEF70E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E2BE4-DF88-4890-BA2F-22EF2E7A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5D3-3485-4298-BC06-1F0A95C7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01387-24CD-4BEF-82AA-6DCD4C10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2ACB5-40AF-479C-BF6D-49283A4B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714D7-1866-479A-918F-C96FB9A9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FD246-FC6F-483F-99A6-C3691EE7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1D2D4-3E2A-4801-82BE-C97BCC65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1348F-933E-4C8D-B40C-E34AD588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60602-B1EC-41C5-8FAE-57CA8889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F9577-60B9-475C-B24E-C4A0577F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4BE25-08C8-46B4-8E32-3AF8B7FB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A1A9C-CFA9-4658-BB40-1FE01AEA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DC75-A32D-478C-9B03-295448066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454A-7DC9-4772-9DFD-5BE0230F1A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50FB-82B6-456D-B6A0-68E67EA88E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A0E6-F431-4CAA-B7F4-AD1C767F34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1AE2-C7EB-44CD-A455-170C224F7C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269-7EB2-43FE-8E34-D06E70401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8344-C651-48A5-8420-5805DC34C8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3C0A-B2C1-414B-B680-D41533203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F830-6B1F-4713-B076-4442587083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79E6-9FD8-416A-8390-B2C58DD39C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CCA-8D80-43E2-9946-84201D371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93AC-AF2C-47F2-8FA3-27F92767B7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F76B-DF88-41F7-8EF5-31B0FA18A2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C3A9-F260-4E4D-BC7D-665E4953AB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C422-793C-4C81-9F5D-F3109EB28A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032B-529A-46E1-9C53-5A123BF1E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F8DD-1420-4F75-A9B6-00739E6CC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A934-3DBE-4377-94C1-B82A03F442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1A8E-3569-4969-ADAB-186AF9F2DA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BEE5-9FFC-41AC-9E3F-8F1E42624F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5EE7-266F-48B3-806A-FCF646B47F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1B21-9C20-42F1-A0F5-50D57746C1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CC07-D9DA-4EC1-A3CF-5695BE4C6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40D0-54BF-4E07-AA38-EEDB413CF3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046F-FE27-4744-A0E4-1918FD0F0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F88F-90B6-4C97-939B-143A14ACA0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A10E-B9EF-4600-A18E-FBAAF18EFC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0C71-9944-4569-B79F-9196C62F2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9307-4C77-4F8C-8A8E-8B7607758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D791-FB5C-4B3D-A7FB-F3F089E943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1BA9-35C2-4DB1-A7B9-07006C179A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D6A2-7B16-45B8-8ABB-262DC1821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2CD-EF53-4445-98B5-A0227F617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2A12-FFEA-466B-9805-7DB15AC896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F1C5-60CA-49AB-BE93-BD19BBC16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DAD3-9ACD-4FE5-B143-C2462AFFB4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2D30-5909-44D0-937C-6F7DB6013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A555-6AF2-440E-9006-C6EFF49A8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8DFE-DC46-428C-8039-94F4867C8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D036-BA19-4F63-B5B7-A5465784D8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04760" y="2600280"/>
            <a:ext cx="89344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4" name="Picture 1" descr=""/>
          <p:cNvPicPr/>
          <p:nvPr/>
        </p:nvPicPr>
        <p:blipFill>
          <a:blip r:embed="rId1"/>
          <a:stretch/>
        </p:blipFill>
        <p:spPr>
          <a:xfrm>
            <a:off x="114480" y="1414440"/>
            <a:ext cx="8915400" cy="43909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2"/>
          <a:stretch/>
        </p:blipFill>
        <p:spPr>
          <a:xfrm>
            <a:off x="1000080" y="2201760"/>
            <a:ext cx="1071720" cy="3160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3"/>
          <a:stretch/>
        </p:blipFill>
        <p:spPr>
          <a:xfrm>
            <a:off x="3975120" y="2206800"/>
            <a:ext cx="857160" cy="3157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4"/>
          <a:stretch/>
        </p:blipFill>
        <p:spPr>
          <a:xfrm>
            <a:off x="1042920" y="3013200"/>
            <a:ext cx="814320" cy="315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5"/>
          <a:stretch/>
        </p:blipFill>
        <p:spPr>
          <a:xfrm>
            <a:off x="2286000" y="3000240"/>
            <a:ext cx="500040" cy="3160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6"/>
          <a:stretch/>
        </p:blipFill>
        <p:spPr>
          <a:xfrm>
            <a:off x="4429080" y="3000240"/>
            <a:ext cx="500040" cy="316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7"/>
          <a:stretch/>
        </p:blipFill>
        <p:spPr>
          <a:xfrm>
            <a:off x="785880" y="3824280"/>
            <a:ext cx="8358120" cy="3160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8"/>
          <a:stretch/>
        </p:blipFill>
        <p:spPr>
          <a:xfrm>
            <a:off x="785880" y="4638600"/>
            <a:ext cx="8358120" cy="3160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9"/>
          <a:stretch/>
        </p:blipFill>
        <p:spPr>
          <a:xfrm>
            <a:off x="785880" y="5445000"/>
            <a:ext cx="835812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5" name="Picture 1" descr=""/>
          <p:cNvPicPr/>
          <p:nvPr/>
        </p:nvPicPr>
        <p:blipFill>
          <a:blip r:embed="rId1"/>
          <a:stretch/>
        </p:blipFill>
        <p:spPr>
          <a:xfrm>
            <a:off x="114480" y="836640"/>
            <a:ext cx="8915400" cy="31050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" descr=""/>
          <p:cNvPicPr/>
          <p:nvPr/>
        </p:nvPicPr>
        <p:blipFill>
          <a:blip r:embed="rId2"/>
          <a:stretch/>
        </p:blipFill>
        <p:spPr>
          <a:xfrm>
            <a:off x="749160" y="4098960"/>
            <a:ext cx="8286840" cy="27147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3"/>
          <a:stretch/>
        </p:blipFill>
        <p:spPr>
          <a:xfrm>
            <a:off x="4714920" y="5025960"/>
            <a:ext cx="1857240" cy="3160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4"/>
          <a:stretch/>
        </p:blipFill>
        <p:spPr>
          <a:xfrm>
            <a:off x="7085160" y="5013360"/>
            <a:ext cx="1857240" cy="3157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5"/>
          <a:stretch/>
        </p:blipFill>
        <p:spPr>
          <a:xfrm>
            <a:off x="2357280" y="5487840"/>
            <a:ext cx="2000520" cy="3160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6"/>
          <a:stretch/>
        </p:blipFill>
        <p:spPr>
          <a:xfrm>
            <a:off x="1928880" y="5891040"/>
            <a:ext cx="1857240" cy="3160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7"/>
          <a:stretch/>
        </p:blipFill>
        <p:spPr>
          <a:xfrm>
            <a:off x="7072200" y="5681520"/>
            <a:ext cx="1857600" cy="3160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8"/>
          <a:stretch/>
        </p:blipFill>
        <p:spPr>
          <a:xfrm>
            <a:off x="2357280" y="6353280"/>
            <a:ext cx="185760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3486240" y="785880"/>
            <a:ext cx="2171520" cy="266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401320" cy="42483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318960" y="5800680"/>
            <a:ext cx="8506080" cy="581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798480" y="16891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5186520" y="17064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831960" y="30337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7"/>
          <a:stretch/>
        </p:blipFill>
        <p:spPr>
          <a:xfrm>
            <a:off x="5214960" y="3008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8"/>
          <a:stretch/>
        </p:blipFill>
        <p:spPr>
          <a:xfrm>
            <a:off x="806400" y="43149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123840" y="1271520"/>
            <a:ext cx="8896320" cy="4314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743040" y="15843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739800" y="2000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755640" y="23828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5"/>
          <a:stretch/>
        </p:blipFill>
        <p:spPr>
          <a:xfrm>
            <a:off x="755640" y="31590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6"/>
          <a:stretch/>
        </p:blipFill>
        <p:spPr>
          <a:xfrm>
            <a:off x="739800" y="39117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119160" y="1963800"/>
            <a:ext cx="8905680" cy="34099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2"/>
          <a:stretch/>
        </p:blipFill>
        <p:spPr>
          <a:xfrm>
            <a:off x="3559320" y="2370240"/>
            <a:ext cx="1357200" cy="315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3"/>
          <a:stretch/>
        </p:blipFill>
        <p:spPr>
          <a:xfrm>
            <a:off x="1854360" y="2778120"/>
            <a:ext cx="574560" cy="3160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4"/>
          <a:stretch/>
        </p:blipFill>
        <p:spPr>
          <a:xfrm>
            <a:off x="2857680" y="2786040"/>
            <a:ext cx="1000080" cy="3160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5"/>
          <a:stretch/>
        </p:blipFill>
        <p:spPr>
          <a:xfrm>
            <a:off x="2592360" y="3197160"/>
            <a:ext cx="1071720" cy="316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6"/>
          <a:stretch/>
        </p:blipFill>
        <p:spPr>
          <a:xfrm>
            <a:off x="4214880" y="3597120"/>
            <a:ext cx="1071360" cy="3160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7"/>
          <a:stretch/>
        </p:blipFill>
        <p:spPr>
          <a:xfrm>
            <a:off x="2857680" y="4013280"/>
            <a:ext cx="78552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3486240" y="836640"/>
            <a:ext cx="2171520" cy="285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7753320" cy="24195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3"/>
          <a:stretch/>
        </p:blipFill>
        <p:spPr>
          <a:xfrm>
            <a:off x="262080" y="4005360"/>
            <a:ext cx="8619840" cy="27813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950760" y="1785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925560" y="2165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6"/>
          <a:stretch/>
        </p:blipFill>
        <p:spPr>
          <a:xfrm>
            <a:off x="925560" y="25639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7"/>
          <a:stretch/>
        </p:blipFill>
        <p:spPr>
          <a:xfrm>
            <a:off x="925560" y="2982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8"/>
          <a:stretch/>
        </p:blipFill>
        <p:spPr>
          <a:xfrm>
            <a:off x="925560" y="34020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9"/>
          <a:stretch/>
        </p:blipFill>
        <p:spPr>
          <a:xfrm>
            <a:off x="1428840" y="5429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10"/>
          <a:stretch/>
        </p:blipFill>
        <p:spPr>
          <a:xfrm>
            <a:off x="2997360" y="5429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11"/>
          <a:stretch/>
        </p:blipFill>
        <p:spPr>
          <a:xfrm>
            <a:off x="4662360" y="54180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12"/>
          <a:stretch/>
        </p:blipFill>
        <p:spPr>
          <a:xfrm>
            <a:off x="6357960" y="5429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13"/>
          <a:stretch/>
        </p:blipFill>
        <p:spPr>
          <a:xfrm>
            <a:off x="8047080" y="542916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Picture 1" descr=""/>
          <p:cNvPicPr/>
          <p:nvPr/>
        </p:nvPicPr>
        <p:blipFill>
          <a:blip r:embed="rId1"/>
          <a:stretch/>
        </p:blipFill>
        <p:spPr>
          <a:xfrm>
            <a:off x="95400" y="1197000"/>
            <a:ext cx="8953200" cy="31813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" descr=""/>
          <p:cNvPicPr/>
          <p:nvPr/>
        </p:nvPicPr>
        <p:blipFill>
          <a:blip r:embed="rId2"/>
          <a:stretch/>
        </p:blipFill>
        <p:spPr>
          <a:xfrm>
            <a:off x="511200" y="4437000"/>
            <a:ext cx="8524800" cy="23148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3"/>
          <a:stretch/>
        </p:blipFill>
        <p:spPr>
          <a:xfrm>
            <a:off x="714240" y="15843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4"/>
          <a:stretch/>
        </p:blipFill>
        <p:spPr>
          <a:xfrm>
            <a:off x="714240" y="24541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5"/>
          <a:stretch/>
        </p:blipFill>
        <p:spPr>
          <a:xfrm>
            <a:off x="714240" y="3243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6"/>
          <a:stretch/>
        </p:blipFill>
        <p:spPr>
          <a:xfrm>
            <a:off x="714240" y="4424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7"/>
          <a:stretch/>
        </p:blipFill>
        <p:spPr>
          <a:xfrm>
            <a:off x="711360" y="56595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209520" y="1046160"/>
            <a:ext cx="8724960" cy="4352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" descr=""/>
          <p:cNvPicPr/>
          <p:nvPr/>
        </p:nvPicPr>
        <p:blipFill>
          <a:blip r:embed="rId2"/>
          <a:stretch/>
        </p:blipFill>
        <p:spPr>
          <a:xfrm>
            <a:off x="601560" y="5438880"/>
            <a:ext cx="8363160" cy="9428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3"/>
          <a:stretch/>
        </p:blipFill>
        <p:spPr>
          <a:xfrm>
            <a:off x="853920" y="17272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4"/>
          <a:stretch/>
        </p:blipFill>
        <p:spPr>
          <a:xfrm>
            <a:off x="844560" y="27608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5"/>
          <a:stretch/>
        </p:blipFill>
        <p:spPr>
          <a:xfrm>
            <a:off x="853920" y="37558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6"/>
          <a:stretch/>
        </p:blipFill>
        <p:spPr>
          <a:xfrm>
            <a:off x="853920" y="47894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7"/>
          <a:stretch/>
        </p:blipFill>
        <p:spPr>
          <a:xfrm>
            <a:off x="853920" y="575640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590400" y="1168560"/>
            <a:ext cx="7963200" cy="4343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" descr=""/>
          <p:cNvPicPr/>
          <p:nvPr/>
        </p:nvPicPr>
        <p:blipFill>
          <a:blip r:embed="rId2"/>
          <a:stretch/>
        </p:blipFill>
        <p:spPr>
          <a:xfrm>
            <a:off x="996840" y="5683320"/>
            <a:ext cx="4057920" cy="914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4143240" y="1865160"/>
            <a:ext cx="1500480" cy="3160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3500280" y="2870280"/>
            <a:ext cx="857520" cy="315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5"/>
          <a:stretch/>
        </p:blipFill>
        <p:spPr>
          <a:xfrm>
            <a:off x="5500800" y="3681360"/>
            <a:ext cx="1643040" cy="3160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6"/>
          <a:stretch/>
        </p:blipFill>
        <p:spPr>
          <a:xfrm>
            <a:off x="2786040" y="4883040"/>
            <a:ext cx="1214640" cy="3160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7"/>
          <a:stretch/>
        </p:blipFill>
        <p:spPr>
          <a:xfrm>
            <a:off x="2428920" y="5979960"/>
            <a:ext cx="71424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6" name="Picture 1" descr=""/>
          <p:cNvPicPr/>
          <p:nvPr/>
        </p:nvPicPr>
        <p:blipFill>
          <a:blip r:embed="rId1"/>
          <a:stretch/>
        </p:blipFill>
        <p:spPr>
          <a:xfrm>
            <a:off x="352440" y="2247840"/>
            <a:ext cx="8439120" cy="23623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2"/>
          <a:stretch/>
        </p:blipFill>
        <p:spPr>
          <a:xfrm>
            <a:off x="1022400" y="26557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3"/>
          <a:stretch/>
        </p:blipFill>
        <p:spPr>
          <a:xfrm>
            <a:off x="996840" y="3035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4"/>
          <a:stretch/>
        </p:blipFill>
        <p:spPr>
          <a:xfrm>
            <a:off x="996840" y="34336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5"/>
          <a:stretch/>
        </p:blipFill>
        <p:spPr>
          <a:xfrm>
            <a:off x="996840" y="38527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6"/>
          <a:stretch/>
        </p:blipFill>
        <p:spPr>
          <a:xfrm>
            <a:off x="996840" y="427212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3:40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